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CD3-57DE-4FB5-A8F6-3D9F5B04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E26-BF46-4ACB-A860-0AA088BA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FF9-3B72-4104-9A80-32DC780E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FA3-7C31-4B9D-A923-1192B00A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AAA-D7DC-47E7-9B86-046CE441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F51-C1BB-41B9-A979-C6D44FFD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93E-463A-40DE-A528-3ABB1D75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0E6-172E-4B82-9A36-94CDEA00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04D-FD9A-4204-8D6C-5AB9D68E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B28-6E6A-46CA-A9F3-9ADF1FB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E48-6CAA-4864-A1AA-14393C2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A8E-59ED-4199-8FC4-767204CB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DA64-F100-4ECE-AC28-32F17E5A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induonnet.com/thehindu/yw/2002/12/28/images/2002122800090302.jpg&amp;imgrefurl=http://www.hinduonnet.com/thehindu/yw/2002/12/28/stories/2002122800090300.htm&amp;h=340&amp;w=350&amp;sz=14&amp;hl=en&amp;start=19&amp;um=1&amp;tbnid=pKRwxT1gETz5PM:&amp;tbnh=117&amp;tbnw=120&amp;prev=/images%3Fq%3Dthe%2B7%2Bhabits%2Bof%2Bhighly%2Beffective%2Bteens%26um%3D1%26hl%3Den%26safe%3Dactive%26sa%3DN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NRHS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Raider Pride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Make it Hap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4724280" cy="430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6200000">
            <a:off x="-1213200" y="3718440"/>
            <a:ext cx="389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April 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35268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roactive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with your 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be a hard-working 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you can do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cessary, begin looking for a new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923160" y="4114800"/>
            <a:ext cx="222084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91120" y="1523880"/>
            <a:ext cx="3352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active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 to everyone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utinize the new employee to find his wea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convinced that your supervisor is out to g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to slack off while working your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0556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he Victimitis Virus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ople infected with Victimitis think that everyone has it in for them and the world owes them some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Reactive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 Easily Off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am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t Angry and Say things they Reg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ge only when they hav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ne and Com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 for thing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76800" y="4587840"/>
            <a:ext cx="3067200" cy="227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610320" y="4719600"/>
            <a:ext cx="2533680" cy="2138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Proactive People are a Different Breed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active peo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not easily off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responsibility for thei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before the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unce back when something bad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find a way 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“Make it Happ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on things they can do something about and don’t worry about things they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ontrol Vs. No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295280"/>
            <a:ext cx="6553440" cy="556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590920"/>
            <a:ext cx="3048120" cy="2895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9051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rcle of No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971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l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505320"/>
            <a:ext cx="2361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276720"/>
            <a:ext cx="1600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of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Mist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Tu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56272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de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276720"/>
            <a:ext cx="13716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eople’s thoughts &amp;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ill win the word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4368960"/>
            <a:ext cx="1905120" cy="2489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urning Setbacks into Trium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can deal us a bad hand and it’s up to us to control how we resp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not what happens to you in life, it’s what you do about i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uch has been given to me.  I have no time to ponder that which has been denied.” – Helen K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evelop a “Can-Do”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proactive really means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Responsibility for you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a “Can-Do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657600"/>
            <a:ext cx="358164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n-D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initiative to “make it happ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Solutions &amp;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657600"/>
            <a:ext cx="388620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No-Can-D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Something to happen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problems &amp;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cted u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i="1" lang="en-US" sz="5400" spc="-1" strike="noStrike">
                <a:solidFill>
                  <a:srgbClr val="ff3300"/>
                </a:solidFill>
                <a:latin typeface="Comic Sans MS"/>
              </a:rPr>
              <a:t>Just Push Paus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life is moving so fast that we instantly react to everything out of sheer hab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smarter 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5880" y="4560840"/>
            <a:ext cx="3048120" cy="229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4 Human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stand apart from myself and observe my thoughts &amp;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listen to my inner voice to know right from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envision new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the power to cho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24480" y="4451400"/>
            <a:ext cx="2819520" cy="2406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e Pro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pplication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95120"/>
            <a:ext cx="7696080" cy="461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 a problem from your work or personal life that is frustrating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whether it is a direct, indirect, or no contro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the first step you can take in your Circle of Influence to solve it and then take that st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hether I fail or Succeed shall be no man’s doing but my own.  I am the force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 Elaine Max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mericana BT"/>
              </a:rPr>
              <a:t>The 7 Habits of Highly Effective T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4800600" cy="426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1: Be 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2: Begin with the End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3: Put First Thing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4: Think Win-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5: Seek First to Understand, Then to Be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6: Synerg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7: Sharpen the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8077320" cy="1623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15000" y="2362320"/>
            <a:ext cx="30574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t in the Ha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rst make our habits, then our habits make u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P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Habits are things we do repeate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Fold your ar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ry folding your arms the opposite way.  How does tha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abit #1:  Be Pro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abit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s the key to unlocking all the other habits and that’s why it come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t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Captain of m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choose my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responsible for my own happiness (or unhappine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in the driver’s seat of my destiny (not a passeng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active people make choices based on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ve people make choices based on im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6840" y="4410000"/>
            <a:ext cx="2297160" cy="244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733920" cy="46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roa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do better than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look at all our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hoos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gotta be a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not going to let your bad mood rub off on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89840" y="3924360"/>
            <a:ext cx="2054160" cy="293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600200"/>
            <a:ext cx="313200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a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just the way 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ruined m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cenario #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verhear your best friend bad-mouthing you in front of a group.  She doesn’t know you overheard the conversation.  Just five minutes ago, this same friend was sweet-talking you to your face.  You feel hurt and bet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32767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activ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her off, then hit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into a deep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she’s a two-faced liar and give her the silent treatment for 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vicious rumors about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990720"/>
            <a:ext cx="3124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Reactiv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giv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ront her and calmly share how you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it and give her a second ch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#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been working at your job in the store for over a year now and have been extremely committed and dependable.  Three months ago, a new employee joined the crew.  Recently, he was given the coveted Saturday afternoon shift, the shift you were hop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42:37Z</dcterms:created>
  <dc:creator>North Rockland High School</dc:creator>
  <dc:description/>
  <dc:language>en-US</dc:language>
  <cp:lastModifiedBy>North Rockland High School</cp:lastModifiedBy>
  <dcterms:modified xsi:type="dcterms:W3CDTF">2008-04-07T19:32:32Z</dcterms:modified>
  <cp:revision>18</cp:revision>
  <dc:subject/>
  <dc:title> NRHS Raider Pride</dc:title>
</cp:coreProperties>
</file>